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84F3-C2CA-4812-8E68-FE752434D5B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Catabólicas: ATP y coenzimas reducidas o “transportadores de En” que se usan en las Anabólicas: convierten precursores en macromoléc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EBBC-D7E3-48DD-874A-B490139D28E0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36FE-43DF-4A99-82A2-DFFECFF3522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M. Intermedio /Intermediario: Activ. de todas rutas metab, en q interv. Precursores, Metabolitos y Productos de Baja Masa Mole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896E-64DF-4B05-ADE8-6A7D0513C2D1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3681-79A0-480D-A6EE-0047B588BE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FUTURO: Progreso en Qca. Biol. = Desarrollo EN Cs. De la Salud = Responsab. Conocim.básico para aplicar/investi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0E2C-2BD8-4068-83B5-1D7F866D90C2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D8CC-F42A-48F3-BDE7-FC21D189B70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8F3-0619-462D-9481-23518DA2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5DF-F150-402A-8714-0BDF349A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C47-B4F3-4443-B7F7-7C358A72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08B-CCC0-4F76-9117-E6DA55CB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961-91F3-406A-87B6-C8ACB06B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828-4FD2-4661-A01F-A1E6B000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36F-AD41-41DA-8116-B1276209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9E3-40DB-4F19-A389-B50E638A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26A-FF5A-4697-9777-D2762C46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8A5-BE4F-4A86-BFF8-23E2B2F2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5AA-709C-4456-BCE8-328F7D02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023-9968-4229-BC6D-7DBD7216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6E06-CDE7-4B4E-AE6F-7755F150130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quimicabiologicaunsl.wikispaces.com/lic.bioquimica" TargetMode="External"/><Relationship Id="rId3" Type="http://schemas.openxmlformats.org/officeDocument/2006/relationships/hyperlink" Target="http://quimicabiologicaunsl.wikispaces.com/farmacia" TargetMode="External"/><Relationship Id="rId4" Type="http://schemas.openxmlformats.org/officeDocument/2006/relationships/hyperlink" Target="http://quimicabiologicaunsl.wikispaces.com/biologia.molecular" TargetMode="External"/><Relationship Id="rId5" Type="http://schemas.openxmlformats.org/officeDocument/2006/relationships/hyperlink" Target="http://quimicabiologicaunsl.wikispaces.com/ingenieria" TargetMode="External"/><Relationship Id="rId6" Type="http://schemas.openxmlformats.org/officeDocument/2006/relationships/hyperlink" Target="http://quimicabiologicaunsl.wikispaces.com/analista.biologico" TargetMode="External"/><Relationship Id="rId7" Type="http://schemas.openxmlformats.org/officeDocument/2006/relationships/hyperlink" Target="http://quimicabiologicaunsl.wikispaces.com/Optativo+en+plantas" TargetMode="External"/><Relationship Id="rId8" Type="http://schemas.openxmlformats.org/officeDocument/2006/relationships/hyperlink" Target="http://quimicabiologicaunsl.wikispaces.com/lic.nutricion" TargetMode="External"/><Relationship Id="rId9" Type="http://schemas.openxmlformats.org/officeDocument/2006/relationships/hyperlink" Target="http://quimicabiologicaunsl.wikispaces.com/lic.quimica" TargetMode="External"/><Relationship Id="rId10" Type="http://schemas.openxmlformats.org/officeDocument/2006/relationships/hyperlink" Target="http://quimicabiologicaunsl.wikispaces.com/lic.biologicas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lanesestudio.unsl.edu.ar/index.php?action=car&amp;fac=10&amp;car=42&amp;plan=11/09&amp;version=2" TargetMode="External"/><Relationship Id="rId2" Type="http://schemas.openxmlformats.org/officeDocument/2006/relationships/hyperlink" Target="http://cargaprogramas.unsl.edu.ar/fmn-programas/public_view.php?p=18082" TargetMode="External"/><Relationship Id="rId3" Type="http://schemas.openxmlformats.org/officeDocument/2006/relationships/hyperlink" Target="http://planesestudio.unsl.edu.ar/index.php?action=matProg&amp;fac=10&amp;car=42&amp;mat=217&amp;plan=11/09&amp;version=2" TargetMode="External"/><Relationship Id="rId4" Type="http://schemas.openxmlformats.org/officeDocument/2006/relationships/hyperlink" Target="http://planesestudio.unsl.edu.ar/index.php?action=correlat&amp;fac=10&amp;car=42&amp;plan=11/09&amp;version=2&amp;mat=217" TargetMode="External"/><Relationship Id="rId5" Type="http://schemas.openxmlformats.org/officeDocument/2006/relationships/hyperlink" Target="http://cargaprogramas.unsl.edu.ar/fmn-programas/public_view.php?p=18083" TargetMode="External"/><Relationship Id="rId6" Type="http://schemas.openxmlformats.org/officeDocument/2006/relationships/hyperlink" Target="http://cargaprogramas.unsl.edu.ar/fmn-programas/public_view.php?p=15501" TargetMode="External"/><Relationship Id="rId7" Type="http://schemas.openxmlformats.org/officeDocument/2006/relationships/hyperlink" Target="http://planesestudio.unsl.edu.ar/index.php?action=matProg&amp;fac=10&amp;car=42&amp;mat=841&amp;plan=11/09&amp;version=2" TargetMode="External"/><Relationship Id="rId8" Type="http://schemas.openxmlformats.org/officeDocument/2006/relationships/hyperlink" Target="http://planesestudio.unsl.edu.ar/index.php?action=correlat&amp;fac=10&amp;car=42&amp;plan=11/09&amp;version=2&amp;mat=841" TargetMode="External"/><Relationship Id="rId9" Type="http://schemas.openxmlformats.org/officeDocument/2006/relationships/hyperlink" Target="http://cargaprogramas.unsl.edu.ar/fmn-programas/public_view.php?p=17936" TargetMode="External"/><Relationship Id="rId10" Type="http://schemas.openxmlformats.org/officeDocument/2006/relationships/hyperlink" Target="http://cargaprogramas.unsl.edu.ar/fmn-programas/public_view.php?p=15857" TargetMode="External"/><Relationship Id="rId11" Type="http://schemas.openxmlformats.org/officeDocument/2006/relationships/hyperlink" Target="http://planesestudio.unsl.edu.ar/index.php?action=matProg&amp;fac=10&amp;car=42&amp;mat=842&amp;plan=11/09&amp;version=2" TargetMode="External"/><Relationship Id="rId12" Type="http://schemas.openxmlformats.org/officeDocument/2006/relationships/hyperlink" Target="http://planesestudio.unsl.edu.ar/index.php?action=correlat&amp;fac=10&amp;car=42&amp;plan=11/09&amp;version=2&amp;mat=842" TargetMode="External"/><Relationship Id="rId13" Type="http://schemas.openxmlformats.org/officeDocument/2006/relationships/hyperlink" Target="http://cargaprogramas.unsl.edu.ar/fmn-programas/public_view.php?p=17945" TargetMode="External"/><Relationship Id="rId14" Type="http://schemas.openxmlformats.org/officeDocument/2006/relationships/hyperlink" Target="http://cargaprogramas.unsl.edu.ar/fmn-programas/public_view.php?p=15858" TargetMode="External"/><Relationship Id="rId15" Type="http://schemas.openxmlformats.org/officeDocument/2006/relationships/hyperlink" Target="http://planesestudio.unsl.edu.ar/index.php?action=matProg&amp;fac=10&amp;car=42&amp;mat=843&amp;plan=11/09&amp;version=2" TargetMode="External"/><Relationship Id="rId16" Type="http://schemas.openxmlformats.org/officeDocument/2006/relationships/hyperlink" Target="http://planesestudio.unsl.edu.ar/index.php?action=correlat&amp;fac=10&amp;car=42&amp;plan=11/09&amp;version=2&amp;mat=843" TargetMode="External"/><Relationship Id="rId17" Type="http://schemas.openxmlformats.org/officeDocument/2006/relationships/hyperlink" Target="http://cargaprogramas.unsl.edu.ar/fmn-programas/public_view.php?p=15538" TargetMode="External"/><Relationship Id="rId18" Type="http://schemas.openxmlformats.org/officeDocument/2006/relationships/hyperlink" Target="http://planesestudio.unsl.edu.ar/index.php?action=matProg&amp;fac=10&amp;car=42&amp;mat=226&amp;plan=11/09&amp;version=2" TargetMode="External"/><Relationship Id="rId19" Type="http://schemas.openxmlformats.org/officeDocument/2006/relationships/hyperlink" Target="http://planesestudio.unsl.edu.ar/index.php?action=correlat&amp;fac=10&amp;car=42&amp;plan=11/09&amp;version=2&amp;mat=226" TargetMode="External"/><Relationship Id="rId20" Type="http://schemas.openxmlformats.org/officeDocument/2006/relationships/hyperlink" Target="http://cargaprogramas.unsl.edu.ar/fmn-programas/public_view.php?p=15528" TargetMode="External"/><Relationship Id="rId21" Type="http://schemas.openxmlformats.org/officeDocument/2006/relationships/hyperlink" Target="http://planesestudio.unsl.edu.ar/index.php?action=matProg&amp;fac=10&amp;car=42&amp;mat=31&amp;plan=11/09&amp;version=2" TargetMode="External"/><Relationship Id="rId22" Type="http://schemas.openxmlformats.org/officeDocument/2006/relationships/hyperlink" Target="http://planesestudio.unsl.edu.ar/index.php?action=correlat&amp;fac=10&amp;car=42&amp;plan=11/09&amp;version=2&amp;mat=31" TargetMode="External"/><Relationship Id="rId23" Type="http://schemas.openxmlformats.org/officeDocument/2006/relationships/hyperlink" Target="http://cargaprogramas.unsl.edu.ar/fmn-programas/public_view.php?p=18635" TargetMode="External"/><Relationship Id="rId24" Type="http://schemas.openxmlformats.org/officeDocument/2006/relationships/hyperlink" Target="http://planesestudio.unsl.edu.ar/index.php?action=matProg&amp;fac=10&amp;car=42&amp;mat=791&amp;plan=11/09&amp;version=2" TargetMode="External"/><Relationship Id="rId25" Type="http://schemas.openxmlformats.org/officeDocument/2006/relationships/hyperlink" Target="http://planesestudio.unsl.edu.ar/index.php?action=correlat&amp;fac=10&amp;car=42&amp;plan=11/09&amp;version=2&amp;mat=791" TargetMode="External"/><Relationship Id="rId26" Type="http://schemas.openxmlformats.org/officeDocument/2006/relationships/hyperlink" Target="http://cargaprogramas.unsl.edu.ar/fmn-programas/public_view.php?p=16968" TargetMode="External"/><Relationship Id="rId27" Type="http://schemas.openxmlformats.org/officeDocument/2006/relationships/hyperlink" Target="http://cargaprogramas.unsl.edu.ar/fmn-programas/public_view.php?p=16970" TargetMode="External"/><Relationship Id="rId28" Type="http://schemas.openxmlformats.org/officeDocument/2006/relationships/hyperlink" Target="http://planesestudio.unsl.edu.ar/index.php?action=matProg&amp;fac=10&amp;car=42&amp;mat=844&amp;plan=11/09&amp;version=2" TargetMode="External"/><Relationship Id="rId29" Type="http://schemas.openxmlformats.org/officeDocument/2006/relationships/hyperlink" Target="http://planesestudio.unsl.edu.ar/index.php?action=correlat&amp;fac=10&amp;car=42&amp;plan=11/09&amp;version=2&amp;mat=844" TargetMode="External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lanesestudio.unsl.edu.ar/index.php?action=car&amp;fac=10&amp;car=42&amp;plan=11/09&amp;version=2" TargetMode="External"/><Relationship Id="rId2" Type="http://schemas.openxmlformats.org/officeDocument/2006/relationships/hyperlink" Target="http://cargaprogramas.unsl.edu.ar/fmn-programas/public_view.php?p=17885" TargetMode="External"/><Relationship Id="rId3" Type="http://schemas.openxmlformats.org/officeDocument/2006/relationships/hyperlink" Target="http://cargaprogramas.unsl.edu.ar/fmn-programas/public_view.php?p=16014" TargetMode="External"/><Relationship Id="rId4" Type="http://schemas.openxmlformats.org/officeDocument/2006/relationships/hyperlink" Target="http://planesestudio.unsl.edu.ar/index.php?action=matProg&amp;fac=10&amp;car=42&amp;mat=22&amp;plan=11/09&amp;version=2" TargetMode="External"/><Relationship Id="rId5" Type="http://schemas.openxmlformats.org/officeDocument/2006/relationships/hyperlink" Target="http://planesestudio.unsl.edu.ar/index.php?action=correlat&amp;fac=10&amp;car=42&amp;plan=11/09&amp;version=2&amp;mat=22" TargetMode="External"/><Relationship Id="rId6" Type="http://schemas.openxmlformats.org/officeDocument/2006/relationships/hyperlink" Target="http://cargaprogramas.unsl.edu.ar/fmn-programas/public_view.php?p=18713" TargetMode="External"/><Relationship Id="rId7" Type="http://schemas.openxmlformats.org/officeDocument/2006/relationships/hyperlink" Target="http://planesestudio.unsl.edu.ar/index.php?action=matProg&amp;fac=10&amp;car=42&amp;mat=505&amp;plan=11/09&amp;version=2" TargetMode="External"/><Relationship Id="rId8" Type="http://schemas.openxmlformats.org/officeDocument/2006/relationships/hyperlink" Target="http://planesestudio.unsl.edu.ar/index.php?action=correlat&amp;fac=10&amp;car=42&amp;plan=11/09&amp;version=2&amp;mat=505" TargetMode="External"/><Relationship Id="rId9" Type="http://schemas.openxmlformats.org/officeDocument/2006/relationships/hyperlink" Target="http://cargaprogramas.unsl.edu.ar/fmn-programas/public_view.php?p=17472" TargetMode="External"/><Relationship Id="rId10" Type="http://schemas.openxmlformats.org/officeDocument/2006/relationships/hyperlink" Target="http://planesestudio.unsl.edu.ar/index.php?action=matProg&amp;fac=10&amp;car=42&amp;mat=845&amp;plan=11/09&amp;version=2" TargetMode="External"/><Relationship Id="rId11" Type="http://schemas.openxmlformats.org/officeDocument/2006/relationships/hyperlink" Target="http://planesestudio.unsl.edu.ar/index.php?action=correlat&amp;fac=10&amp;car=42&amp;plan=11/09&amp;version=2&amp;mat=845" TargetMode="External"/><Relationship Id="rId12" Type="http://schemas.openxmlformats.org/officeDocument/2006/relationships/hyperlink" Target="http://cargaprogramas.unsl.edu.ar/fmn-programas/public_view.php?p=17939" TargetMode="External"/><Relationship Id="rId13" Type="http://schemas.openxmlformats.org/officeDocument/2006/relationships/hyperlink" Target="http://cargaprogramas.unsl.edu.ar/fmn-programas/public_view.php?p=17463" TargetMode="External"/><Relationship Id="rId14" Type="http://schemas.openxmlformats.org/officeDocument/2006/relationships/hyperlink" Target="http://planesestudio.unsl.edu.ar/index.php?action=matProg&amp;fac=10&amp;car=42&amp;mat=846&amp;plan=11/09&amp;version=2" TargetMode="External"/><Relationship Id="rId15" Type="http://schemas.openxmlformats.org/officeDocument/2006/relationships/hyperlink" Target="http://planesestudio.unsl.edu.ar/index.php?action=correlat&amp;fac=10&amp;car=42&amp;plan=11/09&amp;version=2&amp;mat=846" TargetMode="External"/><Relationship Id="rId16" Type="http://schemas.openxmlformats.org/officeDocument/2006/relationships/hyperlink" Target="http://planesestudio.unsl.edu.ar/index.php?action=correlat&amp;fac=10&amp;car=42&amp;plan=11/09&amp;version=2&amp;mat=326" TargetMode="External"/><Relationship Id="rId17" Type="http://schemas.openxmlformats.org/officeDocument/2006/relationships/hyperlink" Target="http://cargaprogramas.unsl.edu.ar/fmn-programas/public_view.php?p=16947" TargetMode="External"/><Relationship Id="rId18" Type="http://schemas.openxmlformats.org/officeDocument/2006/relationships/hyperlink" Target="http://planesestudio.unsl.edu.ar/index.php?action=matProg&amp;fac=10&amp;car=42&amp;mat=847&amp;plan=11/09&amp;version=2" TargetMode="Externa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53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18 Grupo"/>
          <p:cNvGrpSpPr/>
          <p:nvPr/>
        </p:nvGrpSpPr>
        <p:grpSpPr>
          <a:xfrm>
            <a:off x="0" y="0"/>
            <a:ext cx="9144000" cy="6376320"/>
            <a:chOff x="0" y="0"/>
            <a:chExt cx="9144000" cy="6376320"/>
          </a:xfrm>
        </p:grpSpPr>
        <p:sp>
          <p:nvSpPr>
            <p:cNvPr id="77" name="4 CuadroTexto"/>
            <p:cNvSpPr/>
            <p:nvPr/>
          </p:nvSpPr>
          <p:spPr>
            <a:xfrm>
              <a:off x="642600" y="2357280"/>
              <a:ext cx="2571840" cy="119124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udio de l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onent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los seres v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7 CuadroTexto"/>
            <p:cNvSpPr/>
            <p:nvPr/>
          </p:nvSpPr>
          <p:spPr>
            <a:xfrm>
              <a:off x="4929120" y="2357280"/>
              <a:ext cx="3500280" cy="119124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udio de las transformaciones quím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ue suceden en las célu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5 CuadroTexto"/>
            <p:cNvSpPr/>
            <p:nvPr/>
          </p:nvSpPr>
          <p:spPr>
            <a:xfrm>
              <a:off x="0" y="0"/>
              <a:ext cx="9144000" cy="2197080"/>
            </a:xfrm>
            <a:prstGeom prst="rect">
              <a:avLst/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7030a0"/>
                  </a:solidFill>
                  <a:latin typeface="Arial"/>
                </a:rPr>
                <a:t>OBJETOS DE ESTUDIO DE LA QUÍMICA BIOLÓG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7030a0"/>
                  </a:solidFill>
                  <a:latin typeface="Arial"/>
                </a:rPr>
                <a:t>Aportes de la Química Biológica a la Nutr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9 CuadroTexto"/>
            <p:cNvSpPr/>
            <p:nvPr/>
          </p:nvSpPr>
          <p:spPr>
            <a:xfrm>
              <a:off x="5286240" y="4214880"/>
              <a:ext cx="2571840" cy="5205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Metabolism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uadroTexto"/>
            <p:cNvSpPr/>
            <p:nvPr/>
          </p:nvSpPr>
          <p:spPr>
            <a:xfrm>
              <a:off x="571320" y="5429160"/>
              <a:ext cx="3000240" cy="9471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Moléculas biológic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12 CuadroTexto"/>
            <p:cNvSpPr/>
            <p:nvPr/>
          </p:nvSpPr>
          <p:spPr>
            <a:xfrm>
              <a:off x="714240" y="4214880"/>
              <a:ext cx="2571840" cy="5205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Bioelemen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13 Flecha abajo"/>
            <p:cNvSpPr/>
            <p:nvPr/>
          </p:nvSpPr>
          <p:spPr>
            <a:xfrm>
              <a:off x="1857240" y="357192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14 Flecha abajo"/>
            <p:cNvSpPr/>
            <p:nvPr/>
          </p:nvSpPr>
          <p:spPr>
            <a:xfrm>
              <a:off x="1857240" y="478620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15 Flecha abajo"/>
            <p:cNvSpPr/>
            <p:nvPr/>
          </p:nvSpPr>
          <p:spPr>
            <a:xfrm>
              <a:off x="6500880" y="357192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16 Flecha abajo"/>
            <p:cNvSpPr/>
            <p:nvPr/>
          </p:nvSpPr>
          <p:spPr>
            <a:xfrm>
              <a:off x="1857240" y="200016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7 Flecha abajo"/>
            <p:cNvSpPr/>
            <p:nvPr/>
          </p:nvSpPr>
          <p:spPr>
            <a:xfrm>
              <a:off x="6500880" y="200016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9 CuadroTexto"/>
          <p:cNvSpPr/>
          <p:nvPr/>
        </p:nvSpPr>
        <p:spPr>
          <a:xfrm>
            <a:off x="4714920" y="1928880"/>
            <a:ext cx="392436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0 CuadroTexto"/>
          <p:cNvSpPr/>
          <p:nvPr/>
        </p:nvSpPr>
        <p:spPr>
          <a:xfrm>
            <a:off x="433440" y="1914480"/>
            <a:ext cx="338112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4280"/>
            <a:ext cx="8497800" cy="1152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OMPUESTOS CONSTITUYENTES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E LA MATERIA VI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14480" y="1127160"/>
            <a:ext cx="5429160" cy="394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AGU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65% 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MINERAL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ólid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P, 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ION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solu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HIDRATOS DE CARBO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LÍPI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PROTEÍ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ÁCIDOS NUCLE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2080" y="1785960"/>
            <a:ext cx="2881080" cy="45972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85840" y="3071880"/>
            <a:ext cx="2857320" cy="129420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GÁ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MOLÉ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OLÓG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3214800" y="1214280"/>
            <a:ext cx="428400" cy="1659240"/>
          </a:xfrm>
          <a:custGeom>
            <a:avLst/>
            <a:gdLst>
              <a:gd name="textAreaLeft" fmla="*/ 273600 w 428400"/>
              <a:gd name="textAreaRight" fmla="*/ 428760 w 428400"/>
              <a:gd name="textAreaTop" fmla="*/ 43200 h 1659240"/>
              <a:gd name="textAreaBottom" fmla="*/ 1616040 h 165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2"/>
                  <a:pt x="10800" y="1803"/>
                </a:cubicBezTo>
                <a:lnTo>
                  <a:pt x="10800" y="9152"/>
                </a:lnTo>
                <a:cubicBezTo>
                  <a:pt x="10800" y="10054"/>
                  <a:pt x="5400" y="10955"/>
                  <a:pt x="0" y="10955"/>
                </a:cubicBezTo>
                <a:cubicBezTo>
                  <a:pt x="5400" y="10955"/>
                  <a:pt x="10800" y="11857"/>
                  <a:pt x="10800" y="12758"/>
                </a:cubicBezTo>
                <a:lnTo>
                  <a:pt x="10800" y="19797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214800" y="3071880"/>
            <a:ext cx="428400" cy="1643040"/>
          </a:xfrm>
          <a:custGeom>
            <a:avLst/>
            <a:gdLst>
              <a:gd name="textAreaLeft" fmla="*/ 273600 w 428400"/>
              <a:gd name="textAreaRight" fmla="*/ 428760 w 428400"/>
              <a:gd name="textAreaTop" fmla="*/ 75960 h 1643040"/>
              <a:gd name="textAreaBottom" fmla="*/ 156708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6"/>
                  <a:pt x="10800" y="3192"/>
                </a:cubicBezTo>
                <a:lnTo>
                  <a:pt x="10800" y="7764"/>
                </a:lnTo>
                <a:cubicBezTo>
                  <a:pt x="10800" y="9360"/>
                  <a:pt x="5400" y="10956"/>
                  <a:pt x="0" y="10956"/>
                </a:cubicBezTo>
                <a:cubicBezTo>
                  <a:pt x="5400" y="10956"/>
                  <a:pt x="10800" y="12552"/>
                  <a:pt x="10800" y="14148"/>
                </a:cubicBezTo>
                <a:lnTo>
                  <a:pt x="10800" y="18408"/>
                </a:lnTo>
                <a:cubicBezTo>
                  <a:pt x="10800" y="200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1 CuadroTexto"/>
          <p:cNvSpPr/>
          <p:nvPr/>
        </p:nvSpPr>
        <p:spPr>
          <a:xfrm>
            <a:off x="3829320" y="4857840"/>
            <a:ext cx="2019960" cy="16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VIT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HOR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PIGMENTOS</a:t>
            </a:r>
            <a:r>
              <a:rPr b="1" lang="es-ES_tradnl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2 CuadroTexto"/>
          <p:cNvSpPr/>
          <p:nvPr/>
        </p:nvSpPr>
        <p:spPr>
          <a:xfrm>
            <a:off x="3910680" y="4857840"/>
            <a:ext cx="22291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14200" y="1428840"/>
          <a:ext cx="4357800" cy="2830320"/>
        </p:xfrm>
        <a:graphic>
          <a:graphicData uri="http://schemas.openxmlformats.org/drawingml/2006/table">
            <a:tbl>
              <a:tblPr/>
              <a:tblGrid>
                <a:gridCol w="2179800"/>
                <a:gridCol w="2178000"/>
              </a:tblGrid>
              <a:tr h="938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PRIM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96% del Peso Corpo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xígeno ( 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5,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rbono   (C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ógeno ( H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trógeno ( 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alcio ( Ca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Fósforo ( P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14920" y="1428840"/>
          <a:ext cx="4357800" cy="2786040"/>
        </p:xfrm>
        <a:graphic>
          <a:graphicData uri="http://schemas.openxmlformats.org/drawingml/2006/table">
            <a:tbl>
              <a:tblPr/>
              <a:tblGrid>
                <a:gridCol w="2179440"/>
                <a:gridCol w="2178360"/>
              </a:tblGrid>
              <a:tr h="90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Potasio ( K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zufre ( S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Sodio ( Na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loro ( Cl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13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Magnesio ( M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erro ( F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000240" y="4286160"/>
          <a:ext cx="3357720" cy="241776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714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OLIGOELE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luor ( F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re  (Cu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odo( I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ganeso ( M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inc ( Z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alto( C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102" name="16 CuadroTexto"/>
          <p:cNvSpPr/>
          <p:nvPr/>
        </p:nvSpPr>
        <p:spPr>
          <a:xfrm>
            <a:off x="0" y="142920"/>
            <a:ext cx="9144000" cy="1501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BIOELE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En el organismo humano – Criterio CUANTITATIVO - Expresado en % de Peso Corpo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611280" y="2852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SI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CROMOLÉ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357720" y="2205000"/>
            <a:ext cx="2520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Arial"/>
              </a:rPr>
              <a:t>NUCLEÓ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MONOSACÁ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402000" y="4869000"/>
            <a:ext cx="3384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Arial"/>
              </a:rPr>
              <a:t>ÁCIDOS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POLISACÁ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6262560" y="3919680"/>
            <a:ext cx="2810160" cy="2867040"/>
          </a:xfrm>
          <a:prstGeom prst="rect">
            <a:avLst/>
          </a:prstGeom>
          <a:ln w="0">
            <a:noFill/>
          </a:ln>
        </p:spPr>
      </p:pic>
      <p:sp>
        <p:nvSpPr>
          <p:cNvPr id="108" name="7 CuadroTexto"/>
          <p:cNvSpPr/>
          <p:nvPr/>
        </p:nvSpPr>
        <p:spPr>
          <a:xfrm>
            <a:off x="0" y="0"/>
            <a:ext cx="9144000" cy="1131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BIOMOLÉ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Criterio ESTRUCTU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en 2" descr=""/>
          <p:cNvPicPr/>
          <p:nvPr/>
        </p:nvPicPr>
        <p:blipFill>
          <a:blip r:embed="rId1"/>
          <a:srcRect l="8889" t="0" r="5633" b="27013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920" y="23241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H. DE CARBO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PROTEI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LI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720" y="2349360"/>
            <a:ext cx="431928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VITAMI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MINE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OLIGOELEME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24000" y="2428920"/>
            <a:ext cx="39607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cc"/>
                </a:solidFill>
                <a:latin typeface="Arial"/>
              </a:rPr>
              <a:t>ALIMENTOS BÁSICOS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FUENTES DE ENERGÍ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0" y="2428920"/>
            <a:ext cx="3960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(FACTORES DIETÉTICOS ESEN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 CuadroTexto"/>
          <p:cNvSpPr/>
          <p:nvPr/>
        </p:nvSpPr>
        <p:spPr>
          <a:xfrm>
            <a:off x="0" y="0"/>
            <a:ext cx="9144000" cy="1679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IFICACION DE LOS 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Criterio: CANTIDAD REQUERIDA EN LA DIETA NORM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4648680" y="2428920"/>
            <a:ext cx="38293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9 CuadroTexto"/>
          <p:cNvSpPr/>
          <p:nvPr/>
        </p:nvSpPr>
        <p:spPr>
          <a:xfrm>
            <a:off x="3929040" y="3000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0 CuadroTexto"/>
          <p:cNvSpPr/>
          <p:nvPr/>
        </p:nvSpPr>
        <p:spPr>
          <a:xfrm>
            <a:off x="428760" y="2333520"/>
            <a:ext cx="41432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1 CuadroTexto"/>
          <p:cNvSpPr/>
          <p:nvPr/>
        </p:nvSpPr>
        <p:spPr>
          <a:xfrm>
            <a:off x="4849920" y="642924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2"/>
          <p:cNvSpPr/>
          <p:nvPr/>
        </p:nvSpPr>
        <p:spPr>
          <a:xfrm>
            <a:off x="313560" y="32004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t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7112880" y="32004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99"/>
                </a:solidFill>
                <a:latin typeface="Times New Roman"/>
              </a:rPr>
              <a:t>Anabo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7"/>
          <p:cNvGrpSpPr/>
          <p:nvPr/>
        </p:nvGrpSpPr>
        <p:grpSpPr>
          <a:xfrm>
            <a:off x="1937520" y="1341360"/>
            <a:ext cx="3957120" cy="4201200"/>
            <a:chOff x="1937520" y="1341360"/>
            <a:chExt cx="3957120" cy="4201200"/>
          </a:xfrm>
        </p:grpSpPr>
        <p:sp>
          <p:nvSpPr>
            <p:cNvPr id="122" name="Text Box 2"/>
            <p:cNvSpPr/>
            <p:nvPr/>
          </p:nvSpPr>
          <p:spPr>
            <a:xfrm>
              <a:off x="3024000" y="1341360"/>
              <a:ext cx="287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0066"/>
                  </a:solidFill>
                  <a:latin typeface="Times New Roman"/>
                </a:rPr>
                <a:t>Estructuras comple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"/>
            <p:cNvSpPr/>
            <p:nvPr/>
          </p:nvSpPr>
          <p:spPr>
            <a:xfrm>
              <a:off x="3273840" y="4724280"/>
              <a:ext cx="256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0066"/>
                  </a:solidFill>
                  <a:latin typeface="Times New Roman"/>
                </a:rPr>
                <a:t>Estructuras si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4"/>
            <p:cNvSpPr/>
            <p:nvPr/>
          </p:nvSpPr>
          <p:spPr>
            <a:xfrm>
              <a:off x="4000680" y="2857680"/>
              <a:ext cx="128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ENER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QUÍ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1"/>
            <p:cNvSpPr/>
            <p:nvPr/>
          </p:nvSpPr>
          <p:spPr>
            <a:xfrm rot="21401400">
              <a:off x="2050920" y="1555560"/>
              <a:ext cx="1008360" cy="3960720"/>
            </a:xfrm>
            <a:custGeom>
              <a:avLst/>
              <a:gdLst>
                <a:gd name="textAreaLeft" fmla="*/ 135000 w 1008360"/>
                <a:gd name="textAreaRight" fmla="*/ 873360 w 1008360"/>
                <a:gd name="textAreaTop" fmla="*/ 802440 h 3960720"/>
                <a:gd name="textAreaBottom" fmla="*/ 271872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3"/>
            <p:cNvSpPr/>
            <p:nvPr/>
          </p:nvSpPr>
          <p:spPr>
            <a:xfrm rot="16200000">
              <a:off x="1429560" y="3058920"/>
              <a:ext cx="20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GRADAC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5"/>
            <p:cNvSpPr/>
            <p:nvPr/>
          </p:nvSpPr>
          <p:spPr>
            <a:xfrm>
              <a:off x="2771640" y="3141720"/>
              <a:ext cx="1295640" cy="28728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8"/>
          <p:cNvGrpSpPr/>
          <p:nvPr/>
        </p:nvGrpSpPr>
        <p:grpSpPr>
          <a:xfrm>
            <a:off x="5076720" y="1123920"/>
            <a:ext cx="1943280" cy="3960720"/>
            <a:chOff x="5076720" y="1123920"/>
            <a:chExt cx="1943280" cy="3960720"/>
          </a:xfrm>
        </p:grpSpPr>
        <p:sp>
          <p:nvSpPr>
            <p:cNvPr id="129" name="AutoShape 22"/>
            <p:cNvSpPr/>
            <p:nvPr/>
          </p:nvSpPr>
          <p:spPr>
            <a:xfrm rot="10800000">
              <a:off x="6012000" y="1123920"/>
              <a:ext cx="1008000" cy="3960720"/>
            </a:xfrm>
            <a:custGeom>
              <a:avLst/>
              <a:gdLst>
                <a:gd name="textAreaLeft" fmla="*/ 135000 w 1008000"/>
                <a:gd name="textAreaRight" fmla="*/ 873000 w 1008000"/>
                <a:gd name="textAreaTop" fmla="*/ 802440 h 3960720"/>
                <a:gd name="textAreaBottom" fmla="*/ 271872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 rot="16200000">
              <a:off x="6010560" y="325332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SINTE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6"/>
            <p:cNvSpPr/>
            <p:nvPr/>
          </p:nvSpPr>
          <p:spPr>
            <a:xfrm>
              <a:off x="5076720" y="3141720"/>
              <a:ext cx="1295640" cy="28728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3 CuadroTexto"/>
          <p:cNvSpPr/>
          <p:nvPr/>
        </p:nvSpPr>
        <p:spPr>
          <a:xfrm>
            <a:off x="761760" y="642960"/>
            <a:ext cx="77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c00000"/>
                </a:solidFill>
                <a:latin typeface="Arial"/>
              </a:rPr>
              <a:t>Conjunto de reacciones químicas que se llevan a cabo en la cél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6 CuadroTexto"/>
          <p:cNvSpPr/>
          <p:nvPr/>
        </p:nvSpPr>
        <p:spPr>
          <a:xfrm>
            <a:off x="0" y="0"/>
            <a:ext cx="9144000" cy="724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METABO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965880" y="907920"/>
            <a:ext cx="1209600" cy="1555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utrie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onten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de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Calibri"/>
              </a:rPr>
              <a:t>Carbohidr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Calibri"/>
              </a:rPr>
              <a:t>Líp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0"/>
          <p:cNvGrpSpPr/>
          <p:nvPr/>
        </p:nvGrpSpPr>
        <p:grpSpPr>
          <a:xfrm>
            <a:off x="2716200" y="907920"/>
            <a:ext cx="5449320" cy="1815840"/>
            <a:chOff x="2716200" y="907920"/>
            <a:chExt cx="5449320" cy="1815840"/>
          </a:xfrm>
        </p:grpSpPr>
        <p:sp>
          <p:nvSpPr>
            <p:cNvPr id="136" name="AutoShape 5"/>
            <p:cNvSpPr/>
            <p:nvPr/>
          </p:nvSpPr>
          <p:spPr>
            <a:xfrm>
              <a:off x="2716200" y="1052640"/>
              <a:ext cx="3887640" cy="1296720"/>
            </a:xfrm>
            <a:prstGeom prst="rightArrow">
              <a:avLst>
                <a:gd name="adj1" fmla="val 45657"/>
                <a:gd name="adj2" fmla="val 5595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AS CATABOL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(Degradación oxida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7212240" y="907920"/>
              <a:ext cx="953280" cy="18158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roduct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fina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arent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de Energ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Calibri"/>
                </a:rPr>
                <a:t>CO</a:t>
              </a:r>
              <a:r>
                <a:rPr b="0" lang="es-ES_tradnl" sz="1400" spc="-1" strike="noStrike" baseline="-18000">
                  <a:solidFill>
                    <a:srgbClr val="000099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r>
                <a:rPr b="0" lang="es-ES_tradnl" sz="1400" spc="-1" strike="noStrike" baseline="-18000">
                  <a:solidFill>
                    <a:srgbClr val="660066"/>
                  </a:solidFill>
                  <a:latin typeface="Calibri"/>
                </a:rPr>
                <a:t>2</a:t>
              </a: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NH</a:t>
              </a:r>
              <a:r>
                <a:rPr b="0" lang="es-ES_tradnl" sz="1200" spc="-1" strike="noStrike" baseline="-18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Oval 8"/>
          <p:cNvSpPr/>
          <p:nvPr/>
        </p:nvSpPr>
        <p:spPr>
          <a:xfrm>
            <a:off x="2411280" y="2708280"/>
            <a:ext cx="1297080" cy="1297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AD</a:t>
            </a:r>
            <a:r>
              <a:rPr b="0" lang="es-ES_tradnl" sz="1400" spc="-1" strike="noStrike" baseline="24000">
                <a:solidFill>
                  <a:srgbClr val="00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ADP</a:t>
            </a:r>
            <a:r>
              <a:rPr b="0" lang="es-ES_tradnl" sz="1400" spc="-1" strike="noStrike" baseline="26000">
                <a:solidFill>
                  <a:srgbClr val="00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DP+HPO</a:t>
            </a:r>
            <a:r>
              <a:rPr b="0" lang="es-ES_tradnl" sz="1400" spc="-1" strike="noStrike" baseline="-18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_tradnl" sz="1400" spc="-1" strike="noStrike" baseline="24000">
                <a:solidFill>
                  <a:srgbClr val="000000"/>
                </a:solidFill>
                <a:latin typeface="Calibri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2916360" y="2060640"/>
            <a:ext cx="3570840" cy="1944720"/>
            <a:chOff x="2916360" y="2060640"/>
            <a:chExt cx="3570840" cy="1944720"/>
          </a:xfrm>
        </p:grpSpPr>
        <p:grpSp>
          <p:nvGrpSpPr>
            <p:cNvPr id="140" name="Group 13"/>
            <p:cNvGrpSpPr/>
            <p:nvPr/>
          </p:nvGrpSpPr>
          <p:grpSpPr>
            <a:xfrm>
              <a:off x="4354560" y="2708280"/>
              <a:ext cx="2132640" cy="1297080"/>
              <a:chOff x="4354560" y="2708280"/>
              <a:chExt cx="2132640" cy="1297080"/>
            </a:xfrm>
          </p:grpSpPr>
          <p:sp>
            <p:nvSpPr>
              <p:cNvPr id="141" name="Oval 10"/>
              <p:cNvSpPr/>
              <p:nvPr/>
            </p:nvSpPr>
            <p:spPr>
              <a:xfrm>
                <a:off x="4354560" y="2708280"/>
                <a:ext cx="1297080" cy="1297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NADP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FADH</a:t>
                </a:r>
                <a:r>
                  <a:rPr b="0" lang="es-ES_tradnl" sz="1400" spc="-1" strike="noStrike" baseline="-18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12"/>
              <p:cNvSpPr/>
              <p:nvPr/>
            </p:nvSpPr>
            <p:spPr>
              <a:xfrm>
                <a:off x="5709240" y="3067200"/>
                <a:ext cx="777960" cy="520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Energí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Quí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AutoShape 14"/>
            <p:cNvSpPr/>
            <p:nvPr/>
          </p:nvSpPr>
          <p:spPr>
            <a:xfrm>
              <a:off x="2916360" y="2060640"/>
              <a:ext cx="2519280" cy="576360"/>
            </a:xfrm>
            <a:custGeom>
              <a:avLst/>
              <a:gdLst>
                <a:gd name="textAreaLeft" fmla="*/ 440640 w 2519280"/>
                <a:gd name="textAreaRight" fmla="*/ 1826640 w 2519280"/>
                <a:gd name="textAreaTop" fmla="*/ 77040 h 576360"/>
                <a:gd name="textAreaBottom" fmla="*/ 4993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5"/>
          <p:cNvSpPr/>
          <p:nvPr/>
        </p:nvSpPr>
        <p:spPr>
          <a:xfrm>
            <a:off x="6659640" y="4149720"/>
            <a:ext cx="1581120" cy="15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olécu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Precurs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Calibri"/>
              </a:rPr>
              <a:t>Monosacár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Calibri"/>
              </a:rPr>
              <a:t>Ácidos gr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minoá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Bases nitrog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2"/>
          <p:cNvGrpSpPr/>
          <p:nvPr/>
        </p:nvGrpSpPr>
        <p:grpSpPr>
          <a:xfrm>
            <a:off x="655200" y="4076640"/>
            <a:ext cx="5572440" cy="1730160"/>
            <a:chOff x="655200" y="4076640"/>
            <a:chExt cx="5572440" cy="1730160"/>
          </a:xfrm>
        </p:grpSpPr>
        <p:sp>
          <p:nvSpPr>
            <p:cNvPr id="146" name="AutoShape 16"/>
            <p:cNvSpPr/>
            <p:nvPr/>
          </p:nvSpPr>
          <p:spPr>
            <a:xfrm>
              <a:off x="2195640" y="4365720"/>
              <a:ext cx="4032000" cy="1368360"/>
            </a:xfrm>
            <a:prstGeom prst="leftArrow">
              <a:avLst>
                <a:gd name="adj1" fmla="val 41296"/>
                <a:gd name="adj2" fmla="val 56872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Calibri"/>
                </a:rPr>
                <a:t>VIAS ANABO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Calibri"/>
                </a:rPr>
                <a:t>(Síntesis reductor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8"/>
            <p:cNvSpPr/>
            <p:nvPr/>
          </p:nvSpPr>
          <p:spPr>
            <a:xfrm>
              <a:off x="655200" y="4221000"/>
              <a:ext cx="1419840" cy="15858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Macromolécul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elula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Calibri"/>
                </a:rPr>
                <a:t>Poli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Líp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roteí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000"/>
                  </a:solidFill>
                  <a:latin typeface="Calibri"/>
                </a:rPr>
                <a:t>Ácidos Nucle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9"/>
            <p:cNvSpPr/>
            <p:nvPr/>
          </p:nvSpPr>
          <p:spPr>
            <a:xfrm flipH="1">
              <a:off x="2842560" y="4076640"/>
              <a:ext cx="2376360" cy="647640"/>
            </a:xfrm>
            <a:custGeom>
              <a:avLst/>
              <a:gdLst>
                <a:gd name="textAreaLeft" fmla="*/ 415800 w 2376360"/>
                <a:gd name="textAreaRight" fmla="*/ 1722960 w 237636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0" y="214200"/>
            <a:ext cx="9144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Sentido biológico del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586880" y="3989520"/>
            <a:ext cx="23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407560" y="398952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alibri"/>
              </a:rPr>
              <a:t>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642960" y="242892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3- Utilizar los productos de la degradación como precursores para la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síntesis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de moléculas constituyentes de órganos y tejidos y otras sustancias necesarias para su funcion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6 CuadroTexto"/>
          <p:cNvSpPr/>
          <p:nvPr/>
        </p:nvSpPr>
        <p:spPr>
          <a:xfrm>
            <a:off x="883800" y="1071720"/>
            <a:ext cx="75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-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Obtener energí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y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poder reductor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 partir de los nut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7 CuadroTexto"/>
          <p:cNvSpPr/>
          <p:nvPr/>
        </p:nvSpPr>
        <p:spPr>
          <a:xfrm>
            <a:off x="1312920" y="1643040"/>
            <a:ext cx="67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 Degradar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ompuestos ingeridos con los alimen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o los de reserva, en productos m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á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8 CuadroTexto"/>
          <p:cNvSpPr/>
          <p:nvPr/>
        </p:nvSpPr>
        <p:spPr>
          <a:xfrm>
            <a:off x="928800" y="1071720"/>
            <a:ext cx="757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0 CuadroTexto"/>
          <p:cNvSpPr/>
          <p:nvPr/>
        </p:nvSpPr>
        <p:spPr>
          <a:xfrm>
            <a:off x="1079640" y="1639800"/>
            <a:ext cx="696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2 CuadroTexto"/>
          <p:cNvSpPr/>
          <p:nvPr/>
        </p:nvSpPr>
        <p:spPr>
          <a:xfrm>
            <a:off x="588600" y="2505240"/>
            <a:ext cx="8117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807200" y="37944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14240" y="3857760"/>
            <a:ext cx="75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. 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CuadroTexto"/>
          <p:cNvSpPr/>
          <p:nvPr/>
        </p:nvSpPr>
        <p:spPr>
          <a:xfrm>
            <a:off x="571680" y="15717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Digestión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5 CuadroTexto"/>
          <p:cNvSpPr/>
          <p:nvPr/>
        </p:nvSpPr>
        <p:spPr>
          <a:xfrm>
            <a:off x="642960" y="278604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6 CuadroTexto"/>
          <p:cNvSpPr/>
          <p:nvPr/>
        </p:nvSpPr>
        <p:spPr>
          <a:xfrm>
            <a:off x="357120" y="1500120"/>
            <a:ext cx="8178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7 CuadroTexto"/>
          <p:cNvSpPr/>
          <p:nvPr/>
        </p:nvSpPr>
        <p:spPr>
          <a:xfrm>
            <a:off x="366480" y="2643120"/>
            <a:ext cx="824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8 CuadroTexto"/>
          <p:cNvSpPr/>
          <p:nvPr/>
        </p:nvSpPr>
        <p:spPr>
          <a:xfrm>
            <a:off x="437400" y="3857760"/>
            <a:ext cx="8053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Comic Sans MS"/>
              </a:rPr>
              <a:t>Equipo Doc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742680" y="1785960"/>
            <a:ext cx="8468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Nuria Mitjans………………………. Responsable de Pr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Lorena Navigatore Fonzo…… Responsable de Pr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Alicia Molina…………………………… Prof. Respon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Fanny Zirulnik ……………………….Prof. Colabo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166" name="Line 2"/>
          <p:cNvSpPr/>
          <p:nvPr/>
        </p:nvSpPr>
        <p:spPr>
          <a:xfrm>
            <a:off x="2843280" y="1989000"/>
            <a:ext cx="576360" cy="29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2843280" y="1792440"/>
            <a:ext cx="4209840" cy="368280"/>
            <a:chOff x="2843280" y="1792440"/>
            <a:chExt cx="4209840" cy="368280"/>
          </a:xfrm>
        </p:grpSpPr>
        <p:sp>
          <p:nvSpPr>
            <p:cNvPr id="168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"/>
            <p:cNvSpPr/>
            <p:nvPr/>
          </p:nvSpPr>
          <p:spPr>
            <a:xfrm>
              <a:off x="5613480" y="179244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6"/>
          <p:cNvGrpSpPr/>
          <p:nvPr/>
        </p:nvGrpSpPr>
        <p:grpSpPr>
          <a:xfrm>
            <a:off x="3132000" y="4071960"/>
            <a:ext cx="6081840" cy="642600"/>
            <a:chOff x="3132000" y="4071960"/>
            <a:chExt cx="6081840" cy="642600"/>
          </a:xfrm>
        </p:grpSpPr>
        <p:sp>
          <p:nvSpPr>
            <p:cNvPr id="171" name="Line 7"/>
            <p:cNvSpPr/>
            <p:nvPr/>
          </p:nvSpPr>
          <p:spPr>
            <a:xfrm>
              <a:off x="3132000" y="4508640"/>
              <a:ext cx="25534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5732280" y="4071960"/>
              <a:ext cx="348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r>
                <a:rPr b="1" lang="es-ES_tradnl" sz="1800" spc="-1" strike="noStrike">
                  <a:solidFill>
                    <a:srgbClr val="953735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ABSORCIÓN DE NUTR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3564000" y="3521160"/>
            <a:ext cx="3587760" cy="368280"/>
            <a:chOff x="3564000" y="3521160"/>
            <a:chExt cx="3587760" cy="368280"/>
          </a:xfrm>
        </p:grpSpPr>
        <p:sp>
          <p:nvSpPr>
            <p:cNvPr id="174" name="Line 10"/>
            <p:cNvSpPr/>
            <p:nvPr/>
          </p:nvSpPr>
          <p:spPr>
            <a:xfrm>
              <a:off x="3564000" y="3789360"/>
              <a:ext cx="215532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1"/>
            <p:cNvSpPr/>
            <p:nvPr/>
          </p:nvSpPr>
          <p:spPr>
            <a:xfrm>
              <a:off x="5712120" y="35211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2"/>
          <p:cNvSpPr/>
          <p:nvPr/>
        </p:nvSpPr>
        <p:spPr>
          <a:xfrm>
            <a:off x="1888920" y="25236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gestión - Absorción - Metabo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 l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5381640" y="485784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178" name="14 Flecha abajo"/>
          <p:cNvSpPr/>
          <p:nvPr/>
        </p:nvSpPr>
        <p:spPr>
          <a:xfrm>
            <a:off x="6357960" y="4643280"/>
            <a:ext cx="14292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https://encrypted-tbn0.gstatic.com/images?q=tbn:ANd9GcQ_mMqCoWoHOwqRncCnMIO8eT93NL-zO_OqykfExUwFU-QjzTjT"/>
          <p:cNvPicPr/>
          <p:nvPr/>
        </p:nvPicPr>
        <p:blipFill>
          <a:blip r:embed="rId3"/>
          <a:stretch/>
        </p:blipFill>
        <p:spPr>
          <a:xfrm>
            <a:off x="7358040" y="4816440"/>
            <a:ext cx="1785960" cy="2041560"/>
          </a:xfrm>
          <a:prstGeom prst="rect">
            <a:avLst/>
          </a:prstGeom>
          <a:ln w="0">
            <a:noFill/>
          </a:ln>
        </p:spPr>
      </p:pic>
      <p:sp>
        <p:nvSpPr>
          <p:cNvPr id="184" name="17 Flecha derecha"/>
          <p:cNvSpPr/>
          <p:nvPr/>
        </p:nvSpPr>
        <p:spPr>
          <a:xfrm>
            <a:off x="6500880" y="5715000"/>
            <a:ext cx="157140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5 CuadroTexto"/>
          <p:cNvSpPr/>
          <p:nvPr/>
        </p:nvSpPr>
        <p:spPr>
          <a:xfrm>
            <a:off x="6217920" y="585792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METABO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6 CuadroTexto"/>
          <p:cNvSpPr/>
          <p:nvPr/>
        </p:nvSpPr>
        <p:spPr>
          <a:xfrm>
            <a:off x="6093000" y="5715000"/>
            <a:ext cx="2265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1"/>
          <p:cNvPicPr/>
          <p:nvPr/>
        </p:nvPicPr>
        <p:blipFill>
          <a:blip r:embed="rId1"/>
          <a:stretch/>
        </p:blipFill>
        <p:spPr>
          <a:xfrm>
            <a:off x="1763640" y="476280"/>
            <a:ext cx="4537080" cy="5832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2"/>
          <p:cNvSpPr/>
          <p:nvPr/>
        </p:nvSpPr>
        <p:spPr>
          <a:xfrm>
            <a:off x="357120" y="0"/>
            <a:ext cx="8286840" cy="52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Dotum"/>
                <a:ea typeface="Dotum"/>
              </a:rPr>
              <a:t>METABOLISM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6572160" y="1214280"/>
            <a:ext cx="2397240" cy="161856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66"/>
                </a:solidFill>
                <a:latin typeface="Calibri"/>
              </a:rPr>
              <a:t>Conjunto de reacciones químicas que tienen lugar en las células o en el orga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8 Flecha abajo"/>
          <p:cNvSpPr/>
          <p:nvPr/>
        </p:nvSpPr>
        <p:spPr>
          <a:xfrm>
            <a:off x="7715160" y="2928960"/>
            <a:ext cx="142920" cy="78588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6572160" y="3797280"/>
            <a:ext cx="2397240" cy="119124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Dotum"/>
                <a:ea typeface="Dotum"/>
              </a:rPr>
              <a:t>VÍAS</a:t>
            </a:r>
            <a:r>
              <a:rPr b="1" lang="es-ES_tradnl" sz="2400" spc="-1" strike="noStrike">
                <a:solidFill>
                  <a:srgbClr val="660066"/>
                </a:solidFill>
                <a:latin typeface="Dotum"/>
                <a:ea typeface="Dotum"/>
              </a:rPr>
              <a:t> 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Dotum"/>
                <a:ea typeface="Dotum"/>
              </a:rPr>
              <a:t>RUT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650880" y="461880"/>
            <a:ext cx="7840800" cy="5943600"/>
          </a:xfrm>
          <a:prstGeom prst="rect">
            <a:avLst/>
          </a:prstGeom>
          <a:ln w="0">
            <a:noFill/>
          </a:ln>
        </p:spPr>
      </p:pic>
      <p:sp>
        <p:nvSpPr>
          <p:cNvPr id="194" name="5 CuadroTexto"/>
          <p:cNvSpPr/>
          <p:nvPr/>
        </p:nvSpPr>
        <p:spPr>
          <a:xfrm>
            <a:off x="1033200" y="212760"/>
            <a:ext cx="73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quema de relaciones entre rutas catabólicas y an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2 CuadroTexto"/>
          <p:cNvSpPr/>
          <p:nvPr/>
        </p:nvSpPr>
        <p:spPr>
          <a:xfrm>
            <a:off x="0" y="50004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Cuáles son las “herramientas” funda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de las Vías Metaból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3 CuadroTexto"/>
          <p:cNvSpPr/>
          <p:nvPr/>
        </p:nvSpPr>
        <p:spPr>
          <a:xfrm>
            <a:off x="2097720" y="2214720"/>
            <a:ext cx="4548600" cy="1556640"/>
          </a:xfrm>
          <a:prstGeom prst="rect">
            <a:avLst/>
          </a:prstGeom>
          <a:solidFill>
            <a:srgbClr val="b7dee8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ENZ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(catalizadores biológ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6 Conector recto"/>
          <p:cNvSpPr/>
          <p:nvPr/>
        </p:nvSpPr>
        <p:spPr>
          <a:xfrm>
            <a:off x="2428920" y="1643040"/>
            <a:ext cx="4071960" cy="1440"/>
          </a:xfrm>
          <a:prstGeom prst="line">
            <a:avLst/>
          </a:prstGeom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6 Conector recto"/>
          <p:cNvSpPr/>
          <p:nvPr/>
        </p:nvSpPr>
        <p:spPr>
          <a:xfrm flipH="1">
            <a:off x="4357800" y="1643040"/>
            <a:ext cx="1440" cy="57168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9 CuadroTexto"/>
          <p:cNvSpPr/>
          <p:nvPr/>
        </p:nvSpPr>
        <p:spPr>
          <a:xfrm>
            <a:off x="277920" y="648828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1452600" y="357120"/>
            <a:ext cx="61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squemas de distintos tipos de Ví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280240" y="1413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87"/>
          <p:cNvGrpSpPr/>
          <p:nvPr/>
        </p:nvGrpSpPr>
        <p:grpSpPr>
          <a:xfrm>
            <a:off x="2682720" y="1125360"/>
            <a:ext cx="1096560" cy="747000"/>
            <a:chOff x="2682720" y="1125360"/>
            <a:chExt cx="1096560" cy="747000"/>
          </a:xfrm>
        </p:grpSpPr>
        <p:sp>
          <p:nvSpPr>
            <p:cNvPr id="203" name="Text Box 6"/>
            <p:cNvSpPr/>
            <p:nvPr/>
          </p:nvSpPr>
          <p:spPr>
            <a:xfrm>
              <a:off x="3432600" y="141264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0"/>
            <p:cNvSpPr/>
            <p:nvPr/>
          </p:nvSpPr>
          <p:spPr>
            <a:xfrm>
              <a:off x="2682720" y="162864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4"/>
            <p:cNvSpPr/>
            <p:nvPr/>
          </p:nvSpPr>
          <p:spPr>
            <a:xfrm>
              <a:off x="28418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88"/>
          <p:cNvGrpSpPr/>
          <p:nvPr/>
        </p:nvGrpSpPr>
        <p:grpSpPr>
          <a:xfrm>
            <a:off x="3762360" y="1125360"/>
            <a:ext cx="1094760" cy="747000"/>
            <a:chOff x="3762360" y="1125360"/>
            <a:chExt cx="1094760" cy="747000"/>
          </a:xfrm>
        </p:grpSpPr>
        <p:sp>
          <p:nvSpPr>
            <p:cNvPr id="207" name="Text Box 7"/>
            <p:cNvSpPr/>
            <p:nvPr/>
          </p:nvSpPr>
          <p:spPr>
            <a:xfrm>
              <a:off x="4513320" y="141264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3762360" y="162864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39110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89"/>
          <p:cNvGrpSpPr/>
          <p:nvPr/>
        </p:nvGrpSpPr>
        <p:grpSpPr>
          <a:xfrm>
            <a:off x="4915080" y="1125360"/>
            <a:ext cx="2217960" cy="747000"/>
            <a:chOff x="4915080" y="1125360"/>
            <a:chExt cx="2217960" cy="747000"/>
          </a:xfrm>
        </p:grpSpPr>
        <p:sp>
          <p:nvSpPr>
            <p:cNvPr id="211" name="Text Box 8"/>
            <p:cNvSpPr/>
            <p:nvPr/>
          </p:nvSpPr>
          <p:spPr>
            <a:xfrm>
              <a:off x="5653440" y="14126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9"/>
            <p:cNvSpPr/>
            <p:nvPr/>
          </p:nvSpPr>
          <p:spPr>
            <a:xfrm>
              <a:off x="6790680" y="14126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b05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4915080" y="1628640"/>
              <a:ext cx="72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6067440" y="1628640"/>
              <a:ext cx="72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4980960" y="112536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62204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90"/>
          <p:cNvGrpSpPr/>
          <p:nvPr/>
        </p:nvGrpSpPr>
        <p:grpSpPr>
          <a:xfrm>
            <a:off x="4916520" y="1747800"/>
            <a:ext cx="2291760" cy="675720"/>
            <a:chOff x="4916520" y="1747800"/>
            <a:chExt cx="2291760" cy="675720"/>
          </a:xfrm>
        </p:grpSpPr>
        <p:sp>
          <p:nvSpPr>
            <p:cNvPr id="218" name="Line 18"/>
            <p:cNvSpPr/>
            <p:nvPr/>
          </p:nvSpPr>
          <p:spPr>
            <a:xfrm>
              <a:off x="4916520" y="1773000"/>
              <a:ext cx="57456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5637960" y="19638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0"/>
            <p:cNvSpPr/>
            <p:nvPr/>
          </p:nvSpPr>
          <p:spPr>
            <a:xfrm>
              <a:off x="6818760" y="19638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b050"/>
                  </a:solidFill>
                  <a:latin typeface="Calibri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67440" y="2205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6214320" y="17478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91"/>
          <p:cNvGrpSpPr/>
          <p:nvPr/>
        </p:nvGrpSpPr>
        <p:grpSpPr>
          <a:xfrm>
            <a:off x="2269080" y="2494080"/>
            <a:ext cx="4848120" cy="747000"/>
            <a:chOff x="2269080" y="2494080"/>
            <a:chExt cx="4848120" cy="747000"/>
          </a:xfrm>
        </p:grpSpPr>
        <p:sp>
          <p:nvSpPr>
            <p:cNvPr id="224" name="Text Box 25"/>
            <p:cNvSpPr/>
            <p:nvPr/>
          </p:nvSpPr>
          <p:spPr>
            <a:xfrm>
              <a:off x="2269080" y="2781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3421440" y="27813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7"/>
            <p:cNvSpPr/>
            <p:nvPr/>
          </p:nvSpPr>
          <p:spPr>
            <a:xfrm>
              <a:off x="4502520" y="2781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5642640" y="2781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9"/>
            <p:cNvSpPr/>
            <p:nvPr/>
          </p:nvSpPr>
          <p:spPr>
            <a:xfrm>
              <a:off x="6779520" y="2781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267156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375120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90356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>
              <a:off x="605628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283068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389988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6"/>
            <p:cNvSpPr/>
            <p:nvPr/>
          </p:nvSpPr>
          <p:spPr>
            <a:xfrm>
              <a:off x="4970160" y="249408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620964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4"/>
          <p:cNvGrpSpPr/>
          <p:nvPr/>
        </p:nvGrpSpPr>
        <p:grpSpPr>
          <a:xfrm>
            <a:off x="2627280" y="3141720"/>
            <a:ext cx="1800360" cy="0"/>
            <a:chOff x="2627280" y="3141720"/>
            <a:chExt cx="1800360" cy="0"/>
          </a:xfrm>
        </p:grpSpPr>
        <p:sp>
          <p:nvSpPr>
            <p:cNvPr id="238" name="Line 38"/>
            <p:cNvSpPr/>
            <p:nvPr/>
          </p:nvSpPr>
          <p:spPr>
            <a:xfrm>
              <a:off x="370692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0"/>
            <p:cNvSpPr/>
            <p:nvPr/>
          </p:nvSpPr>
          <p:spPr>
            <a:xfrm>
              <a:off x="262728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93"/>
          <p:cNvGrpSpPr/>
          <p:nvPr/>
        </p:nvGrpSpPr>
        <p:grpSpPr>
          <a:xfrm>
            <a:off x="4859280" y="3141720"/>
            <a:ext cx="1873080" cy="0"/>
            <a:chOff x="4859280" y="3141720"/>
            <a:chExt cx="1873080" cy="0"/>
          </a:xfrm>
        </p:grpSpPr>
        <p:sp>
          <p:nvSpPr>
            <p:cNvPr id="241" name="Line 39"/>
            <p:cNvSpPr/>
            <p:nvPr/>
          </p:nvSpPr>
          <p:spPr>
            <a:xfrm>
              <a:off x="485928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1"/>
            <p:cNvSpPr/>
            <p:nvPr/>
          </p:nvSpPr>
          <p:spPr>
            <a:xfrm>
              <a:off x="601164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96"/>
          <p:cNvGrpSpPr/>
          <p:nvPr/>
        </p:nvGrpSpPr>
        <p:grpSpPr>
          <a:xfrm>
            <a:off x="2612160" y="4051440"/>
            <a:ext cx="1040040" cy="2259720"/>
            <a:chOff x="2612160" y="4051440"/>
            <a:chExt cx="1040040" cy="2259720"/>
          </a:xfrm>
        </p:grpSpPr>
        <p:sp>
          <p:nvSpPr>
            <p:cNvPr id="244" name="Text Box 45"/>
            <p:cNvSpPr/>
            <p:nvPr/>
          </p:nvSpPr>
          <p:spPr>
            <a:xfrm>
              <a:off x="2612160" y="46022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70c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46"/>
            <p:cNvSpPr/>
            <p:nvPr/>
          </p:nvSpPr>
          <p:spPr>
            <a:xfrm>
              <a:off x="3305520" y="51321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7"/>
            <p:cNvSpPr/>
            <p:nvPr/>
          </p:nvSpPr>
          <p:spPr>
            <a:xfrm>
              <a:off x="2657880" y="585144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3"/>
            <p:cNvSpPr/>
            <p:nvPr/>
          </p:nvSpPr>
          <p:spPr>
            <a:xfrm>
              <a:off x="3279240" y="5707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rc 59"/>
            <p:cNvSpPr/>
            <p:nvPr/>
          </p:nvSpPr>
          <p:spPr>
            <a:xfrm rot="5833800">
              <a:off x="2885400" y="5523840"/>
              <a:ext cx="571320" cy="50508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64"/>
            <p:cNvGrpSpPr/>
            <p:nvPr/>
          </p:nvGrpSpPr>
          <p:grpSpPr>
            <a:xfrm>
              <a:off x="2895480" y="4483080"/>
              <a:ext cx="660240" cy="885960"/>
              <a:chOff x="2895480" y="4483080"/>
              <a:chExt cx="660240" cy="885960"/>
            </a:xfrm>
          </p:grpSpPr>
          <p:sp>
            <p:nvSpPr>
              <p:cNvPr id="250" name="Text Box 52"/>
              <p:cNvSpPr/>
              <p:nvPr/>
            </p:nvSpPr>
            <p:spPr>
              <a:xfrm>
                <a:off x="3218040" y="4601880"/>
                <a:ext cx="33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rc 58"/>
              <p:cNvSpPr/>
              <p:nvPr/>
            </p:nvSpPr>
            <p:spPr>
              <a:xfrm rot="302400">
                <a:off x="2916360" y="4840920"/>
                <a:ext cx="546120" cy="50472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rc 63"/>
              <p:cNvSpPr/>
              <p:nvPr/>
            </p:nvSpPr>
            <p:spPr>
              <a:xfrm flipH="1" flipV="1">
                <a:off x="3060720" y="4483080"/>
                <a:ext cx="216000" cy="41544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65"/>
            <p:cNvSpPr/>
            <p:nvPr/>
          </p:nvSpPr>
          <p:spPr>
            <a:xfrm>
              <a:off x="2922480" y="405144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97"/>
          <p:cNvGrpSpPr/>
          <p:nvPr/>
        </p:nvGrpSpPr>
        <p:grpSpPr>
          <a:xfrm>
            <a:off x="1901160" y="4051440"/>
            <a:ext cx="821880" cy="2259720"/>
            <a:chOff x="1901160" y="4051440"/>
            <a:chExt cx="821880" cy="2259720"/>
          </a:xfrm>
        </p:grpSpPr>
        <p:sp>
          <p:nvSpPr>
            <p:cNvPr id="255" name="Text Box 48"/>
            <p:cNvSpPr/>
            <p:nvPr/>
          </p:nvSpPr>
          <p:spPr>
            <a:xfrm>
              <a:off x="1953360" y="51782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4"/>
            <p:cNvSpPr/>
            <p:nvPr/>
          </p:nvSpPr>
          <p:spPr>
            <a:xfrm>
              <a:off x="2053800" y="585144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60"/>
            <p:cNvSpPr/>
            <p:nvPr/>
          </p:nvSpPr>
          <p:spPr>
            <a:xfrm rot="11103600">
              <a:off x="2127240" y="5564160"/>
              <a:ext cx="574560" cy="50112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67"/>
            <p:cNvGrpSpPr/>
            <p:nvPr/>
          </p:nvGrpSpPr>
          <p:grpSpPr>
            <a:xfrm>
              <a:off x="1901160" y="4483080"/>
              <a:ext cx="793440" cy="919800"/>
              <a:chOff x="1901160" y="4483080"/>
              <a:chExt cx="793440" cy="919800"/>
            </a:xfrm>
          </p:grpSpPr>
          <p:sp>
            <p:nvSpPr>
              <p:cNvPr id="259" name="Arc 61"/>
              <p:cNvSpPr/>
              <p:nvPr/>
            </p:nvSpPr>
            <p:spPr>
              <a:xfrm rot="17043000">
                <a:off x="2093760" y="4812480"/>
                <a:ext cx="576000" cy="50004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62"/>
              <p:cNvSpPr/>
              <p:nvPr/>
            </p:nvSpPr>
            <p:spPr>
              <a:xfrm>
                <a:off x="1901160" y="4674600"/>
                <a:ext cx="33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rc 66"/>
              <p:cNvSpPr/>
              <p:nvPr/>
            </p:nvSpPr>
            <p:spPr>
              <a:xfrm flipV="1">
                <a:off x="2268360" y="4483080"/>
                <a:ext cx="144720" cy="431280"/>
              </a:xfrm>
              <a:prstGeom prst="pie">
                <a:avLst/>
              </a:prstGeom>
              <a:noFill/>
              <a:ln w="442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68"/>
            <p:cNvSpPr/>
            <p:nvPr/>
          </p:nvSpPr>
          <p:spPr>
            <a:xfrm>
              <a:off x="2264760" y="405144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03"/>
          <p:cNvGrpSpPr/>
          <p:nvPr/>
        </p:nvGrpSpPr>
        <p:grpSpPr>
          <a:xfrm>
            <a:off x="4788000" y="3141720"/>
            <a:ext cx="2089080" cy="794520"/>
            <a:chOff x="4788000" y="3141720"/>
            <a:chExt cx="2089080" cy="794520"/>
          </a:xfrm>
        </p:grpSpPr>
        <p:grpSp>
          <p:nvGrpSpPr>
            <p:cNvPr id="264" name="Group 95"/>
            <p:cNvGrpSpPr/>
            <p:nvPr/>
          </p:nvGrpSpPr>
          <p:grpSpPr>
            <a:xfrm>
              <a:off x="4788000" y="3141720"/>
              <a:ext cx="2089080" cy="794520"/>
              <a:chOff x="4788000" y="3141720"/>
              <a:chExt cx="2089080" cy="794520"/>
            </a:xfrm>
          </p:grpSpPr>
          <p:sp>
            <p:nvSpPr>
              <p:cNvPr id="265" name="Line 42"/>
              <p:cNvSpPr/>
              <p:nvPr/>
            </p:nvSpPr>
            <p:spPr>
              <a:xfrm flipV="1">
                <a:off x="5940360" y="3213000"/>
                <a:ext cx="936720" cy="504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5613120" y="347652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99"/>
                    </a:solidFill>
                    <a:latin typeface="Calibri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44"/>
              <p:cNvSpPr/>
              <p:nvPr/>
            </p:nvSpPr>
            <p:spPr>
              <a:xfrm>
                <a:off x="4788000" y="3141720"/>
                <a:ext cx="792000" cy="502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101"/>
            <p:cNvSpPr/>
            <p:nvPr/>
          </p:nvSpPr>
          <p:spPr>
            <a:xfrm>
              <a:off x="6020640" y="314172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02"/>
            <p:cNvSpPr/>
            <p:nvPr/>
          </p:nvSpPr>
          <p:spPr>
            <a:xfrm>
              <a:off x="5225760" y="314172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06"/>
          <p:cNvGrpSpPr/>
          <p:nvPr/>
        </p:nvGrpSpPr>
        <p:grpSpPr>
          <a:xfrm>
            <a:off x="764640" y="1052640"/>
            <a:ext cx="999000" cy="2376360"/>
            <a:chOff x="764640" y="1052640"/>
            <a:chExt cx="999000" cy="2376360"/>
          </a:xfrm>
        </p:grpSpPr>
        <p:sp>
          <p:nvSpPr>
            <p:cNvPr id="271" name="AutoShape 104"/>
            <p:cNvSpPr/>
            <p:nvPr/>
          </p:nvSpPr>
          <p:spPr>
            <a:xfrm>
              <a:off x="1547640" y="1052640"/>
              <a:ext cx="216000" cy="237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05"/>
            <p:cNvSpPr/>
            <p:nvPr/>
          </p:nvSpPr>
          <p:spPr>
            <a:xfrm>
              <a:off x="764640" y="1981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alibri"/>
                </a:rPr>
                <a:t>V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07"/>
          <p:cNvGrpSpPr/>
          <p:nvPr/>
        </p:nvGrpSpPr>
        <p:grpSpPr>
          <a:xfrm>
            <a:off x="642960" y="4005360"/>
            <a:ext cx="1234800" cy="2376360"/>
            <a:chOff x="642960" y="4005360"/>
            <a:chExt cx="1234800" cy="2376360"/>
          </a:xfrm>
        </p:grpSpPr>
        <p:sp>
          <p:nvSpPr>
            <p:cNvPr id="274" name="AutoShape 108"/>
            <p:cNvSpPr/>
            <p:nvPr/>
          </p:nvSpPr>
          <p:spPr>
            <a:xfrm>
              <a:off x="1605240" y="4005360"/>
              <a:ext cx="272520" cy="2376360"/>
            </a:xfrm>
            <a:custGeom>
              <a:avLst/>
              <a:gdLst>
                <a:gd name="textAreaLeft" fmla="*/ 174240 w 272520"/>
                <a:gd name="textAreaRight" fmla="*/ 272880 w 27252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9"/>
            <p:cNvSpPr/>
            <p:nvPr/>
          </p:nvSpPr>
          <p:spPr>
            <a:xfrm>
              <a:off x="642960" y="493380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alibri"/>
                </a:rPr>
                <a:t>Cic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14"/>
          <p:cNvSpPr/>
          <p:nvPr/>
        </p:nvSpPr>
        <p:spPr>
          <a:xfrm>
            <a:off x="5149440" y="4572000"/>
            <a:ext cx="317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…….sustra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P, Q 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..product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Calibri"/>
              </a:rPr>
              <a:t>B, C, D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..metaboli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Calibri"/>
              </a:rPr>
              <a:t>a, b, c, d, e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 </a:t>
            </a:r>
            <a:r>
              <a:rPr b="0" i="1" lang="es-ES_tradnl" sz="24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79 CuadroTexto"/>
          <p:cNvSpPr/>
          <p:nvPr/>
        </p:nvSpPr>
        <p:spPr>
          <a:xfrm>
            <a:off x="4929120" y="4500720"/>
            <a:ext cx="3500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"/>
          <p:cNvSpPr/>
          <p:nvPr/>
        </p:nvSpPr>
        <p:spPr>
          <a:xfrm>
            <a:off x="3274920" y="5661000"/>
            <a:ext cx="1152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8"/>
          <p:cNvGrpSpPr/>
          <p:nvPr/>
        </p:nvGrpSpPr>
        <p:grpSpPr>
          <a:xfrm>
            <a:off x="4284720" y="692280"/>
            <a:ext cx="4608360" cy="5435640"/>
            <a:chOff x="4284720" y="692280"/>
            <a:chExt cx="4608360" cy="5435640"/>
          </a:xfrm>
        </p:grpSpPr>
        <p:pic>
          <p:nvPicPr>
            <p:cNvPr id="280" name="Picture 14" descr=""/>
            <p:cNvPicPr/>
            <p:nvPr/>
          </p:nvPicPr>
          <p:blipFill>
            <a:blip r:embed="rId1"/>
            <a:srcRect l="46637" t="0" r="0" b="0"/>
            <a:stretch/>
          </p:blipFill>
          <p:spPr>
            <a:xfrm>
              <a:off x="4284720" y="692280"/>
              <a:ext cx="4608360" cy="54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6"/>
            <p:cNvSpPr/>
            <p:nvPr/>
          </p:nvSpPr>
          <p:spPr>
            <a:xfrm>
              <a:off x="6067440" y="4076640"/>
              <a:ext cx="18208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Calibri"/>
                </a:rPr>
                <a:t>Vías anabó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Calibri"/>
                </a:rPr>
                <a:t>diverg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9"/>
          <p:cNvGrpSpPr/>
          <p:nvPr/>
        </p:nvGrpSpPr>
        <p:grpSpPr>
          <a:xfrm>
            <a:off x="254160" y="711360"/>
            <a:ext cx="4176720" cy="5508360"/>
            <a:chOff x="254160" y="711360"/>
            <a:chExt cx="4176720" cy="5508360"/>
          </a:xfrm>
        </p:grpSpPr>
        <p:pic>
          <p:nvPicPr>
            <p:cNvPr id="283" name="Picture 2" descr=""/>
            <p:cNvPicPr/>
            <p:nvPr/>
          </p:nvPicPr>
          <p:blipFill>
            <a:blip r:embed="rId2"/>
            <a:srcRect l="0" t="0" r="53329" b="0"/>
            <a:stretch/>
          </p:blipFill>
          <p:spPr>
            <a:xfrm>
              <a:off x="254160" y="711360"/>
              <a:ext cx="40305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3"/>
            <p:cNvSpPr/>
            <p:nvPr/>
          </p:nvSpPr>
          <p:spPr>
            <a:xfrm>
              <a:off x="663480" y="3521160"/>
              <a:ext cx="18208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ías catabó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converg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7"/>
            <p:cNvSpPr/>
            <p:nvPr/>
          </p:nvSpPr>
          <p:spPr>
            <a:xfrm>
              <a:off x="3278160" y="5715000"/>
              <a:ext cx="11527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1 Rectángulo"/>
          <p:cNvSpPr/>
          <p:nvPr/>
        </p:nvSpPr>
        <p:spPr>
          <a:xfrm>
            <a:off x="4929120" y="2428920"/>
            <a:ext cx="3929040" cy="1191240"/>
          </a:xfrm>
          <a:prstGeom prst="rect">
            <a:avLst/>
          </a:prstGeom>
          <a:noFill/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0ac4"/>
                </a:solidFill>
                <a:latin typeface="Arial"/>
              </a:rPr>
              <a:t>Sustancias que colaboran con las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 CuadroTexto"/>
          <p:cNvSpPr/>
          <p:nvPr/>
        </p:nvSpPr>
        <p:spPr>
          <a:xfrm>
            <a:off x="1075680" y="2357280"/>
            <a:ext cx="2615760" cy="1191240"/>
          </a:xfrm>
          <a:prstGeom prst="rect">
            <a:avLst/>
          </a:prstGeom>
          <a:solidFill>
            <a:srgbClr val="b7dee8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NZI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4 CuadroTexto"/>
          <p:cNvSpPr/>
          <p:nvPr/>
        </p:nvSpPr>
        <p:spPr>
          <a:xfrm>
            <a:off x="5014080" y="4214880"/>
            <a:ext cx="3822840" cy="1373760"/>
          </a:xfrm>
          <a:prstGeom prst="rect">
            <a:avLst/>
          </a:prstGeom>
          <a:solidFill>
            <a:srgbClr val="fdeada"/>
          </a:solidFill>
          <a:ln w="414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OLIGO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6 Conector recto"/>
          <p:cNvSpPr/>
          <p:nvPr/>
        </p:nvSpPr>
        <p:spPr>
          <a:xfrm>
            <a:off x="2357280" y="1927080"/>
            <a:ext cx="4071960" cy="1800"/>
          </a:xfrm>
          <a:prstGeom prst="line">
            <a:avLst/>
          </a:prstGeom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6 Conector recto"/>
          <p:cNvSpPr/>
          <p:nvPr/>
        </p:nvSpPr>
        <p:spPr>
          <a:xfrm flipH="1">
            <a:off x="2142720" y="1928880"/>
            <a:ext cx="214200" cy="42840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9 Conector recto"/>
          <p:cNvSpPr/>
          <p:nvPr/>
        </p:nvSpPr>
        <p:spPr>
          <a:xfrm>
            <a:off x="6429240" y="1928880"/>
            <a:ext cx="285840" cy="50004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25 Conector recto"/>
          <p:cNvSpPr/>
          <p:nvPr/>
        </p:nvSpPr>
        <p:spPr>
          <a:xfrm>
            <a:off x="6715080" y="3714840"/>
            <a:ext cx="0" cy="50004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29 CuadroTexto"/>
          <p:cNvSpPr/>
          <p:nvPr/>
        </p:nvSpPr>
        <p:spPr>
          <a:xfrm>
            <a:off x="4829400" y="648828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2 CuadroTexto"/>
          <p:cNvSpPr/>
          <p:nvPr/>
        </p:nvSpPr>
        <p:spPr>
          <a:xfrm>
            <a:off x="0" y="82080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Cuáles son las “herramientas” funda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de las Vías Metaból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12 CuadroTexto"/>
          <p:cNvSpPr/>
          <p:nvPr/>
        </p:nvSpPr>
        <p:spPr>
          <a:xfrm>
            <a:off x="4661640" y="2428920"/>
            <a:ext cx="4405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13 CuadroTexto"/>
          <p:cNvSpPr/>
          <p:nvPr/>
        </p:nvSpPr>
        <p:spPr>
          <a:xfrm>
            <a:off x="4590000" y="4143240"/>
            <a:ext cx="4405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3 CuadroTexto"/>
          <p:cNvSpPr/>
          <p:nvPr/>
        </p:nvSpPr>
        <p:spPr>
          <a:xfrm>
            <a:off x="2606040" y="2467080"/>
            <a:ext cx="33858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QUÍMIC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5 CuadroTexto"/>
          <p:cNvSpPr/>
          <p:nvPr/>
        </p:nvSpPr>
        <p:spPr>
          <a:xfrm>
            <a:off x="1320840" y="928800"/>
            <a:ext cx="2649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 Black"/>
              </a:rPr>
              <a:t>BIOLOGÍA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6 CuadroTexto"/>
          <p:cNvSpPr/>
          <p:nvPr/>
        </p:nvSpPr>
        <p:spPr>
          <a:xfrm>
            <a:off x="5244120" y="928800"/>
            <a:ext cx="2799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 Black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7 CuadroTexto"/>
          <p:cNvSpPr/>
          <p:nvPr/>
        </p:nvSpPr>
        <p:spPr>
          <a:xfrm>
            <a:off x="1902600" y="4967280"/>
            <a:ext cx="1674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0ac4"/>
                </a:solidFill>
                <a:latin typeface="Arial Black"/>
              </a:rPr>
              <a:t>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8 CuadroTexto"/>
          <p:cNvGrpSpPr/>
          <p:nvPr/>
        </p:nvGrpSpPr>
        <p:grpSpPr>
          <a:xfrm>
            <a:off x="5310360" y="4846680"/>
            <a:ext cx="2242800" cy="554040"/>
            <a:chOff x="5310360" y="4846680"/>
            <a:chExt cx="2242800" cy="554040"/>
          </a:xfrm>
        </p:grpSpPr>
        <p:pic>
          <p:nvPicPr>
            <p:cNvPr id="302" name="8 CuadroTexto" descr=""/>
            <p:cNvPicPr/>
            <p:nvPr/>
          </p:nvPicPr>
          <p:blipFill>
            <a:blip r:embed="rId1"/>
            <a:stretch/>
          </p:blipFill>
          <p:spPr>
            <a:xfrm>
              <a:off x="5310360" y="4846680"/>
              <a:ext cx="22428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502600" y="489600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f0ac4"/>
                  </a:solidFill>
                  <a:latin typeface="Arial Black"/>
                </a:rPr>
                <a:t>NUTR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9 Flecha izquierda y derecha"/>
          <p:cNvSpPr/>
          <p:nvPr/>
        </p:nvSpPr>
        <p:spPr>
          <a:xfrm rot="2871600">
            <a:off x="2538360" y="182988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0 Flecha izquierda y derecha"/>
          <p:cNvSpPr/>
          <p:nvPr/>
        </p:nvSpPr>
        <p:spPr>
          <a:xfrm rot="2871600">
            <a:off x="5052960" y="431136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1 Flecha izquierda y derecha"/>
          <p:cNvSpPr/>
          <p:nvPr/>
        </p:nvSpPr>
        <p:spPr>
          <a:xfrm rot="7813800">
            <a:off x="4708080" y="178560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2 Flecha izquierda y derecha"/>
          <p:cNvSpPr/>
          <p:nvPr/>
        </p:nvSpPr>
        <p:spPr>
          <a:xfrm rot="7813800">
            <a:off x="2493360" y="4300200"/>
            <a:ext cx="1216080" cy="199800"/>
          </a:xfrm>
          <a:prstGeom prst="leftRightArrow">
            <a:avLst>
              <a:gd name="adj1" fmla="val 50000"/>
              <a:gd name="adj2" fmla="val 5300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13 CuadroTexto" descr=""/>
          <p:cNvPicPr/>
          <p:nvPr/>
        </p:nvPicPr>
        <p:blipFill>
          <a:blip r:embed="rId2"/>
          <a:stretch/>
        </p:blipFill>
        <p:spPr>
          <a:xfrm>
            <a:off x="420840" y="-249120"/>
            <a:ext cx="450720" cy="3163680"/>
          </a:xfrm>
          <a:prstGeom prst="rect">
            <a:avLst/>
          </a:prstGeom>
          <a:ln w="0">
            <a:noFill/>
          </a:ln>
        </p:spPr>
      </p:pic>
      <p:sp>
        <p:nvSpPr>
          <p:cNvPr id="309" name="15 CuadroTexto"/>
          <p:cNvSpPr/>
          <p:nvPr/>
        </p:nvSpPr>
        <p:spPr>
          <a:xfrm>
            <a:off x="2785320" y="3429000"/>
            <a:ext cx="3141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0ac4"/>
                </a:solidFill>
                <a:latin typeface="Arial Black"/>
              </a:rPr>
              <a:t>Ciencias de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6 Flecha izquierda y derecha"/>
          <p:cNvSpPr/>
          <p:nvPr/>
        </p:nvSpPr>
        <p:spPr>
          <a:xfrm rot="5400000">
            <a:off x="4114440" y="3043440"/>
            <a:ext cx="428760" cy="199800"/>
          </a:xfrm>
          <a:prstGeom prst="leftRightArrow">
            <a:avLst>
              <a:gd name="adj1" fmla="val 50000"/>
              <a:gd name="adj2" fmla="val 5301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17 CuadroTexto" descr=""/>
          <p:cNvPicPr/>
          <p:nvPr/>
        </p:nvPicPr>
        <p:blipFill>
          <a:blip r:embed="rId3"/>
          <a:stretch/>
        </p:blipFill>
        <p:spPr>
          <a:xfrm>
            <a:off x="8474040" y="2865600"/>
            <a:ext cx="45072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3 Rectángulo"/>
          <p:cNvSpPr/>
          <p:nvPr/>
        </p:nvSpPr>
        <p:spPr>
          <a:xfrm>
            <a:off x="857160" y="928800"/>
            <a:ext cx="7929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Bolill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Arial"/>
              </a:rPr>
              <a:t>Enzimas</a:t>
            </a:r>
            <a:r>
              <a:rPr b="1" lang="es-AR" sz="1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Caracteres generales. Nomenclatura y clasificación. Cofactores. Coenzimas: participación de </a:t>
            </a:r>
            <a:r>
              <a:rPr b="1" lang="es-AR" sz="1800" spc="-1" strike="noStrike">
                <a:solidFill>
                  <a:srgbClr val="00b050"/>
                </a:solidFill>
                <a:latin typeface="Arial"/>
              </a:rPr>
              <a:t>Vitaminas y Minerales</a:t>
            </a: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, caracteres generales. Compartimentalización de las enzimas. Cinética enzimática. Factores que afectan la actividad enzimática, temperatura, pH, concentración de enzima y concentración de sustrato. Ecuación de Michaelis-Men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Inhibición de enzimas, competitiva y no competitiva. Enzimas reguladoras. Enzimas alostéricas, modificación por unión coval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Isoenzimas. Zimógenos. Enzimas endógenas y exóg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Rectángulo"/>
          <p:cNvSpPr/>
          <p:nvPr/>
        </p:nvSpPr>
        <p:spPr>
          <a:xfrm>
            <a:off x="1000080" y="3571920"/>
            <a:ext cx="6000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8a80c"/>
                </a:solidFill>
                <a:latin typeface="Arial"/>
              </a:rPr>
              <a:t>Bolilla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8a80c"/>
                </a:solidFill>
                <a:uFillTx/>
                <a:latin typeface="Arial"/>
              </a:rPr>
              <a:t>Vitaminas</a:t>
            </a:r>
            <a:r>
              <a:rPr b="0" lang="es-AR" sz="1800" spc="-1" strike="noStrike" u="sng">
                <a:solidFill>
                  <a:srgbClr val="08a80c"/>
                </a:solidFill>
                <a:uFillTx/>
                <a:latin typeface="Arial"/>
              </a:rPr>
              <a:t>:</a:t>
            </a:r>
            <a:r>
              <a:rPr b="0" lang="es-AR" sz="1800" spc="-1" strike="noStrike">
                <a:solidFill>
                  <a:srgbClr val="08a80c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8a80c"/>
                </a:solidFill>
                <a:latin typeface="Arial"/>
              </a:rPr>
              <a:t>Estructura química. Propiedades generales. Clasificación. Papel funcional de las vitaminas. Provitaminas. Metabolismo. Bioquímica de la avitaminosis. </a:t>
            </a:r>
            <a:r>
              <a:rPr b="1" lang="es-AR" sz="1800" spc="-1" strike="noStrike" u="sng">
                <a:solidFill>
                  <a:srgbClr val="08a80c"/>
                </a:solidFill>
                <a:uFillTx/>
                <a:latin typeface="Arial"/>
              </a:rPr>
              <a:t>Minerales</a:t>
            </a:r>
            <a:r>
              <a:rPr b="0" lang="es-AR" sz="1800" spc="-1" strike="noStrike">
                <a:solidFill>
                  <a:srgbClr val="08a80c"/>
                </a:solidFill>
                <a:latin typeface="Arial"/>
              </a:rPr>
              <a:t>: </a:t>
            </a:r>
            <a:r>
              <a:rPr b="0" lang="es-AR" sz="1800" spc="-1" strike="noStrike">
                <a:solidFill>
                  <a:srgbClr val="08a80c"/>
                </a:solidFill>
                <a:latin typeface="Arial"/>
              </a:rPr>
              <a:t>Principales componentes minerales del organismo. Ubicación celular. Requerimientos. Absorción. Funciones. Homeostasis</a:t>
            </a:r>
            <a:r>
              <a:rPr b="0" lang="es-AR" sz="1800" spc="-1" strike="noStrike">
                <a:solidFill>
                  <a:srgbClr val="159b48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n el estudio de cada vía metabólica se destacará la particip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VITAMINAS Y MINER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4 CuadroTexto"/>
          <p:cNvSpPr/>
          <p:nvPr/>
        </p:nvSpPr>
        <p:spPr>
          <a:xfrm>
            <a:off x="3057120" y="50004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omic Sans MS"/>
              </a:rPr>
              <a:t>FUTURAS CLAS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5 CuadroTexto"/>
          <p:cNvSpPr/>
          <p:nvPr/>
        </p:nvSpPr>
        <p:spPr>
          <a:xfrm>
            <a:off x="714240" y="3643200"/>
            <a:ext cx="76438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Rectángulo"/>
          <p:cNvSpPr/>
          <p:nvPr/>
        </p:nvSpPr>
        <p:spPr>
          <a:xfrm>
            <a:off x="1428840" y="12142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http://quimicabiologicaunsl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57160" y="2079720"/>
            <a:ext cx="7500960" cy="58536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0" bIns="79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Impact"/>
              </a:rPr>
              <a:t>Área de Química Biológica - Universidad Nacional de San Luis</a:t>
            </a: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14200" y="50112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1859c"/>
                </a:solidFill>
                <a:latin typeface="Comic Sans MS"/>
              </a:rPr>
              <a:t>Blog para el intercambio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Escudo_UNSL.jpg"/>
          <p:cNvPicPr/>
          <p:nvPr/>
        </p:nvPicPr>
        <p:blipFill>
          <a:blip r:embed="rId1"/>
          <a:stretch/>
        </p:blipFill>
        <p:spPr>
          <a:xfrm>
            <a:off x="0" y="1714680"/>
            <a:ext cx="1285920" cy="1447560"/>
          </a:xfrm>
          <a:prstGeom prst="rect">
            <a:avLst/>
          </a:prstGeom>
          <a:ln w="0">
            <a:noFill/>
          </a:ln>
        </p:spPr>
      </p:pic>
      <p:sp>
        <p:nvSpPr>
          <p:cNvPr id="61" name="13 Rectángulo"/>
          <p:cNvSpPr/>
          <p:nvPr/>
        </p:nvSpPr>
        <p:spPr>
          <a:xfrm>
            <a:off x="1285920" y="3143160"/>
            <a:ext cx="457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icenciatura en Bio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arm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Ingeniería en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Analista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Optativo en pla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Licenciatura en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Licenciatura en 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Licenciatura y Profesorado en Cienci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00080" y="2214720"/>
          <a:ext cx="7500960" cy="4143240"/>
        </p:xfrm>
        <a:graphic>
          <a:graphicData uri="http://schemas.openxmlformats.org/drawingml/2006/table">
            <a:tbl>
              <a:tblPr/>
              <a:tblGrid>
                <a:gridCol w="750960"/>
                <a:gridCol w="2624040"/>
                <a:gridCol w="1125720"/>
                <a:gridCol w="750600"/>
                <a:gridCol w="1500480"/>
                <a:gridCol w="749160"/>
              </a:tblGrid>
              <a:tr h="4046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ód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terias del Primer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rí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ipo de Curs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Programas Disponibles(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rel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16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CION A LA BIOLO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b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i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38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(16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CION A LA QUIM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b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i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(21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MICA ORGA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(84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TOMIA Y FISIOLOGIA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11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(84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ROPOLOGIA Y FUNDAMENTOS DE LA ALIMENT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(84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UD COMUNIT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3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4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5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6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2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MICA ANALI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9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405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(3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QUIMICA BIOLOG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0"/>
                        </a:rPr>
                        <a:t>2013</a:t>
                      </a: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1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2"/>
                        </a:rPr>
                        <a:t>Ver</a:t>
                      </a: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  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8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(79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ESTADÍSTICA APLIC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3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(84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TOMIA Y FISIOLOGIA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6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9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-25236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00080" y="1214280"/>
          <a:ext cx="7500960" cy="1000440"/>
        </p:xfrm>
        <a:graphic>
          <a:graphicData uri="http://schemas.openxmlformats.org/drawingml/2006/table">
            <a:tbl>
              <a:tblPr/>
              <a:tblGrid>
                <a:gridCol w="4500720"/>
                <a:gridCol w="750600"/>
                <a:gridCol w="749520"/>
                <a:gridCol w="750960"/>
                <a:gridCol w="749160"/>
              </a:tblGrid>
              <a:tr h="72252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de Mate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92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CENCIATURA EN NUTRICIÓN (4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65" name="8 Rectángulo"/>
          <p:cNvSpPr/>
          <p:nvPr/>
        </p:nvSpPr>
        <p:spPr>
          <a:xfrm>
            <a:off x="2214720" y="714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http://planesestudio.unsl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 Rectángulo"/>
          <p:cNvSpPr/>
          <p:nvPr/>
        </p:nvSpPr>
        <p:spPr>
          <a:xfrm>
            <a:off x="2071800" y="285840"/>
            <a:ext cx="49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http://alumnos.unsl.edu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Rectángulo"/>
          <p:cNvSpPr/>
          <p:nvPr/>
        </p:nvSpPr>
        <p:spPr>
          <a:xfrm>
            <a:off x="2657880" y="0"/>
            <a:ext cx="36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http://www.facultaddesalud.unsl.edu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143000" y="857160"/>
          <a:ext cx="7075440" cy="5000760"/>
        </p:xfrm>
        <a:graphic>
          <a:graphicData uri="http://schemas.openxmlformats.org/drawingml/2006/table">
            <a:tbl>
              <a:tblPr/>
              <a:tblGrid>
                <a:gridCol w="646200"/>
                <a:gridCol w="2500200"/>
                <a:gridCol w="1071720"/>
                <a:gridCol w="714240"/>
                <a:gridCol w="1428840"/>
                <a:gridCol w="714240"/>
              </a:tblGrid>
              <a:tr h="69372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del Segundo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í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urs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Programas Disponibles(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(2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MATOLO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(5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OLOGIA GENERAL Y EVOLU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(84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ROBIOLOGIA Y PARASITOLOGIA ALIMENT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(84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ON NORMAL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3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96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(3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NOLOGÍA DE LOS ALI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6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(84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ON MATERN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 (84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A DIET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 (86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ÓN NORMAL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3 Rectángulo"/>
          <p:cNvSpPr/>
          <p:nvPr/>
        </p:nvSpPr>
        <p:spPr>
          <a:xfrm>
            <a:off x="928800" y="285840"/>
            <a:ext cx="7215120" cy="6421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504d"/>
                </a:solidFill>
                <a:latin typeface="Comic Sans MS"/>
              </a:rPr>
              <a:t>ALGUNAS PREGUNTAS QUE PODREMOS RESPONDER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504d"/>
                </a:solidFill>
                <a:latin typeface="Comic Sans MS"/>
              </a:rPr>
              <a:t>QCA.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Si sumerjo las espigas de maíz recién cosechadas en agua hirviendo unos minutos, se conserva su sabor dulce. ¿Cómo ocurre est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Qué nutriente aporta más 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energía 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en su degradación completa: un 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azúcar o un aminoácido 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de igual número de átomos de C? ¿por qué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El arseniato es muy tóxico para la mayoría de los organism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¿cómo se expli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¿Cuál es la </a:t>
            </a:r>
            <a:r>
              <a:rPr b="1" i="1" lang="es-AR" sz="1600" spc="-1" strike="noStrike">
                <a:solidFill>
                  <a:srgbClr val="7030a0"/>
                </a:solidFill>
                <a:latin typeface="Comic Sans MS"/>
              </a:rPr>
              <a:t>lipoproteína</a:t>
            </a: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 considerada como factor de protección de las enfermedades cardíac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Por qué los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 ácidos grasos esenciales 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son sustancias importantes para los seres human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Qué es la 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urea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, cómo se produce y elimi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Es tóxica la ingesta excesiva de 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Vitamina A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La deficiencia de qué </a:t>
            </a:r>
            <a:r>
              <a:rPr b="1" i="1" lang="es-ES_tradnl" sz="1600" spc="-1" strike="noStrike">
                <a:solidFill>
                  <a:srgbClr val="7030a0"/>
                </a:solidFill>
                <a:latin typeface="Comic Sans MS"/>
              </a:rPr>
              <a:t>oligoelemento</a:t>
            </a: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 causa la enfermedad llamada “bocio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Cómo hace frente el organismo a una situación de “inanició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(ayuno prolongad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214280" y="1143000"/>
          <a:ext cx="6286680" cy="5875200"/>
        </p:xfrm>
        <a:graphic>
          <a:graphicData uri="http://schemas.openxmlformats.org/drawingml/2006/table">
            <a:tbl>
              <a:tblPr/>
              <a:tblGrid>
                <a:gridCol w="6286680"/>
              </a:tblGrid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232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PROGRAMA SINTE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1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Introducción a la Bioquímica de la Nutrición. Objeto de estudio. Herramientas para comprender el Metabolismo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2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Enzimas.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3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Cadena respiratoria. Fosforilación oxidativa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4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 Metabolismo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los carbohidratos: Digestión. Vía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colítica. Lanzadera del glicerofosfato. 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l glucógeno. Gluconeogénesis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5: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os del Piruvat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. Ciclo de Krebs. Vía de las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Pentosa fosfato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6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los lípidos: Digestión. Transporte.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Lipogénesis y Lipólisis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7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Aminoácidos: Digestión. Degradación y destino de los esqueletos carbonados. Ciclo de la urea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8: 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Purinas, pirimidinas 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y Metabolismo 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del grupo Hem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9: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os Nucleicos: DNA y R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10: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es. Vitaminas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11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Hormonas. Características y función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12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Integración metabólica. Homeostasis.</a:t>
                      </a:r>
                      <a:br>
                        <a:rPr sz="1600"/>
                      </a:br>
                      <a:br>
                        <a:rPr sz="11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5 CuadroTexto"/>
          <p:cNvSpPr/>
          <p:nvPr/>
        </p:nvSpPr>
        <p:spPr>
          <a:xfrm>
            <a:off x="2791440" y="285840"/>
            <a:ext cx="279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IC.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QUÍMICA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4 Rectángulo"/>
          <p:cNvSpPr/>
          <p:nvPr/>
        </p:nvSpPr>
        <p:spPr>
          <a:xfrm>
            <a:off x="571680" y="642960"/>
            <a:ext cx="75722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 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Bolilla 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Introducción a la Bioquímica de la Nutrición. Objeto de estudio. Relación con otras ramas de las ciencias médicas y biológicas. Concepto de Metabolismo. Función de los nutrientes y otros componentes dietéticos en el metabol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233640" y="0"/>
            <a:ext cx="80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6 CuadroTexto"/>
          <p:cNvSpPr/>
          <p:nvPr/>
        </p:nvSpPr>
        <p:spPr>
          <a:xfrm>
            <a:off x="-115920" y="2000160"/>
            <a:ext cx="933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Qué cambios ocurren en las sustancias incorporadas como 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alimentos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Cuál es el origen de los productos de 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desecho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Cómo se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 sintetizan 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(producen) los componentes del organis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CuadroTexto"/>
          <p:cNvSpPr/>
          <p:nvPr/>
        </p:nvSpPr>
        <p:spPr>
          <a:xfrm flipH="1">
            <a:off x="0" y="285840"/>
            <a:ext cx="914400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Interrogantes que pu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responder la Química Biológ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para comprender la Nutr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6T23:35:22Z</dcterms:created>
  <dc:creator>ali y facu</dc:creator>
  <dc:description/>
  <dc:language>en-US</dc:language>
  <cp:lastModifiedBy>ali y facu</cp:lastModifiedBy>
  <dcterms:modified xsi:type="dcterms:W3CDTF">2014-08-27T23:47:14Z</dcterms:modified>
  <cp:revision>250</cp:revision>
  <dc:subject/>
  <dc:title>Diapositiva 1</dc:title>
</cp:coreProperties>
</file>